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FAC2-CE2D-4119-A5E9-DC7417D5A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321C-CC93-4AD0-ADFB-C134DDBA7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62BA-F55D-4BA8-A7DE-91D732A21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F69D-7C28-4F8B-B1C0-2DF713B00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3DDA-964A-496A-8DB1-EBC3A3745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924A-0097-42AB-AEF7-47ACADC9B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6188-764E-4DE4-83B9-C6EF2F24C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2FE2-27B9-4D7D-B8DD-3EEB1F4E2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0C03-74C8-4569-8BFF-9064A7A90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FF69-207E-4A9D-B7FD-231366449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B68B-2AFC-4413-92F5-4B2E46DAE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08D0-9CCE-482A-A71E-24A1A239A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588C1-FDFF-43C6-8EBE-98DDB474E173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28800"/>
            <a:ext cx="7772400" cy="42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ffffff"/>
                </a:solidFill>
                <a:latin typeface="Zurich Ex BT"/>
              </a:rPr>
              <a:t>Pró-Reitoria ou Institutos Acadêmicos (em caixa baixa)</a:t>
            </a:r>
            <a:br>
              <a:rPr sz="900"/>
            </a:br>
            <a:r>
              <a:rPr b="0" lang="pt-BR" sz="900" spc="-1" strike="noStrike">
                <a:solidFill>
                  <a:srgbClr val="ffffff"/>
                </a:solidFill>
                <a:latin typeface="Zurich Ex BT"/>
              </a:rPr>
              <a:t>Setor subordinado (em caixa baixa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Imagem 5" descr="LOGO-UFTM-2015-EXTERNA-APRESENTACOES-NEGATIVO.png"/>
          <p:cNvPicPr/>
          <p:nvPr/>
        </p:nvPicPr>
        <p:blipFill>
          <a:blip r:embed="rId1"/>
          <a:stretch/>
        </p:blipFill>
        <p:spPr>
          <a:xfrm>
            <a:off x="2714760" y="193680"/>
            <a:ext cx="371448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16T13:06:09Z</dcterms:created>
  <dc:creator>Arquivos</dc:creator>
  <dc:description/>
  <dc:language>en-US</dc:language>
  <cp:lastModifiedBy>Arquivos</cp:lastModifiedBy>
  <dcterms:modified xsi:type="dcterms:W3CDTF">2020-07-29T16:19:01Z</dcterms:modified>
  <cp:revision>9</cp:revision>
  <dc:subject/>
  <dc:title>Slide 1</dc:title>
</cp:coreProperties>
</file>